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057-CF5D-414E-B85E-205D016C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97D-DC16-4301-8BFF-64290C8F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C20-A5FB-498F-A8B7-E20B3F77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623-620B-4F5B-A953-3F7D50A5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CB7-E665-4ED9-BFE6-E9F88A27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1EC-DC36-4F3C-A9EF-3F32BF73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B7F-4919-4060-A194-1BDE938C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1A1-BADA-40E1-B340-EB02B003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4D0-A17A-40C6-9F4E-D9B77A49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85A-9D7C-4CF9-A0FE-F23A8E5D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347-30B1-4B79-A4AB-4ABB3898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C2D-7FF2-4D98-AA59-301E7214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9B2E-1AAE-4F79-8F39-2F7B5F5966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D. Barker,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003" t="2316" r="2003" b="16623"/>
          <a:stretch/>
        </p:blipFill>
        <p:spPr>
          <a:xfrm>
            <a:off x="1447920" y="1371600"/>
            <a:ext cx="609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2003" t="2316" r="2003" b="54775"/>
          <a:stretch/>
        </p:blipFill>
        <p:spPr>
          <a:xfrm>
            <a:off x="1447920" y="1371600"/>
            <a:ext cx="609588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47920" y="3429000"/>
            <a:ext cx="6095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003" t="42058" r="2003" b="16623"/>
          <a:stretch/>
        </p:blipFill>
        <p:spPr>
          <a:xfrm>
            <a:off x="1447920" y="1371600"/>
            <a:ext cx="6095880" cy="1981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3352680"/>
            <a:ext cx="60958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 Ratio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 Ratio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2003" t="45237" r="2003" b="40468"/>
          <a:stretch/>
        </p:blipFill>
        <p:spPr>
          <a:xfrm>
            <a:off x="1447920" y="3429000"/>
            <a:ext cx="6095880" cy="685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rcRect l="2003" t="61134" r="2003" b="7610"/>
          <a:stretch/>
        </p:blipFill>
        <p:spPr>
          <a:xfrm>
            <a:off x="1447920" y="4191120"/>
            <a:ext cx="6095880" cy="1498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rcRect l="2003" t="73852" r="2003" b="7610"/>
          <a:stretch/>
        </p:blipFill>
        <p:spPr>
          <a:xfrm>
            <a:off x="1447920" y="4800600"/>
            <a:ext cx="609588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 Ratio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 Match or Not to Mat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 Match or Not to Mat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 Match or Not to Mat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 Match or Not to Mat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 Match or Not to Mat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sis of Matched Data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R-to-1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R-to-1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R-to-1 Matched Data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dividual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alyzing Frequency Matched Dat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alyzing Frequency Matched Dat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alyzing Frequency Matched Dat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alyzing Frequency Matched Dat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ing Pair Matched Data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dividual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equency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equency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2003" t="2316" r="2003" b="16623"/>
          <a:stretch/>
        </p:blipFill>
        <p:spPr>
          <a:xfrm>
            <a:off x="1447920" y="1371600"/>
            <a:ext cx="609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equency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003" t="2316" r="2003" b="27751"/>
          <a:stretch/>
        </p:blipFill>
        <p:spPr>
          <a:xfrm>
            <a:off x="1447920" y="1371600"/>
            <a:ext cx="609588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4724280"/>
            <a:ext cx="609588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equency 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003" t="2316" r="2003" b="16623"/>
          <a:stretch/>
        </p:blipFill>
        <p:spPr>
          <a:xfrm>
            <a:off x="1447920" y="1371600"/>
            <a:ext cx="609588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47920" y="5257800"/>
            <a:ext cx="609588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447920" y="1371600"/>
            <a:ext cx="6095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18:28:24Z</dcterms:created>
  <dc:creator>Nancy Barker</dc:creator>
  <dc:description/>
  <dc:language>en-US</dc:language>
  <cp:lastModifiedBy>Nancy Barker</cp:lastModifiedBy>
  <dcterms:modified xsi:type="dcterms:W3CDTF">2004-02-23T05:15:50Z</dcterms:modified>
  <cp:revision>69</cp:revision>
  <dc:subject/>
  <dc:title>Slide 1</dc:title>
</cp:coreProperties>
</file>